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FE2-ACB9-445F-B240-30BFD39D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1D1-5F48-40DC-B83E-EBDF60A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8A3-4A80-4D52-8A52-D1C16099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364-B5AC-4322-BC74-E46EBEC2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D7CB-37A9-4BDE-B93A-E933B136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42B-C49E-416A-B0A4-7F48E89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074-7765-498E-ADB8-ACA86B21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86CF-54ED-430E-868E-7B57800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FF2-DDE7-40D2-95DB-F00FBD69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949-1A23-4176-9D4D-6E30721E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BB5-52B8-46CB-A63F-1226746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A3-C653-4BBF-B82C-08E80E5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D71B-E705-4F7D-898D-5388902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B5C-624B-4283-88DB-BA6AD70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AE4-ABAB-4C9A-8064-3C1340E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C14A-F666-4D4A-9F87-FFD56032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84F1-6CF2-4EDC-B1D0-450E8542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22D-CB2A-43FC-80E3-A6B892D3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66D-4943-4DD1-A98B-0E5AF21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C0B-6235-4207-ABEA-D1096E65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AF4-2771-44C5-A4B8-46FEB3C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9A4-4EC3-4010-85FA-BD4B7628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E71-9DC0-409F-9966-5066626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9C9-3470-49F5-8868-1203C5C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1C6-0F69-4F1A-844D-B632D49A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0FAD-2A02-491B-805A-1E60728F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355760" y="17316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2627280" y="73656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活启示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00000" y="2104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寓言像一把钥匙，可以打开心灵之门，启发智慧，让思维活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911240" y="406080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那么什么是寓言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7"/>
          <p:cNvGraphicFramePr/>
          <p:nvPr/>
        </p:nvGraphicFramePr>
        <p:xfrm>
          <a:off x="6877080" y="5950080"/>
          <a:ext cx="4287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5950080"/>
                    <a:ext cx="4287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22040" y="1218960"/>
            <a:ext cx="8864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同学们默读课文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赫尔墨斯为什么要来到人间的雕像店？表现了他怎么的性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“赫尔墨斯又笑着问道：“赫拉的雕像值多少钱？”一句中的“笑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“后来，赫尔墨斯看见自己的雕像，心想他身为神使，又是商人的庇护神，人们对他会更尊重些。”这个想法表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128520" y="2286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学指导二：（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Oval 2"/>
          <p:cNvSpPr/>
          <p:nvPr/>
        </p:nvSpPr>
        <p:spPr>
          <a:xfrm>
            <a:off x="338040" y="731880"/>
            <a:ext cx="1166760" cy="2590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-17280" y="757080"/>
            <a:ext cx="12776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赫耳墨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7934400" y="836640"/>
            <a:ext cx="1191960" cy="2476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8138880" y="10555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雕像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"/>
          <p:cNvSpPr/>
          <p:nvPr/>
        </p:nvSpPr>
        <p:spPr>
          <a:xfrm flipV="1">
            <a:off x="1600200" y="1219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1600200" y="2133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1523880" y="2590920"/>
            <a:ext cx="838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2877120" y="762120"/>
            <a:ext cx="127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问宙斯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问赫拉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问自己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6802560" y="1109520"/>
            <a:ext cx="9144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6975360" y="2192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2"/>
          <p:cNvSpPr/>
          <p:nvPr/>
        </p:nvSpPr>
        <p:spPr>
          <a:xfrm flipV="1">
            <a:off x="7051680" y="271764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4502160" y="766800"/>
            <a:ext cx="263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个银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还要贵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算添头白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650880" y="4257720"/>
            <a:ext cx="1982880" cy="10429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更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2633760" y="47800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6"/>
          <p:cNvSpPr/>
          <p:nvPr/>
        </p:nvSpPr>
        <p:spPr>
          <a:xfrm>
            <a:off x="5526000" y="4313160"/>
            <a:ext cx="2068560" cy="10429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3440880" y="394812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讽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慕虚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高自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5821200" y="44560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算添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1"/>
          <p:cNvSpPr/>
          <p:nvPr/>
        </p:nvSpPr>
        <p:spPr>
          <a:xfrm>
            <a:off x="165240" y="28195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则寓言通过记叙赫尔墨斯在雕像者的店里碰壁的故事，讽刺了那些爱慕虚荣、自高自大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165240" y="533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寓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讽刺了那些自高自大、爱慕虚荣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9-18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WordArt 3"/>
          <p:cNvSpPr txBox="1"/>
          <p:nvPr/>
        </p:nvSpPr>
        <p:spPr>
          <a:xfrm>
            <a:off x="4859280" y="620640"/>
            <a:ext cx="316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蚊子和狮子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333360" y="2362320"/>
            <a:ext cx="850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能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理解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蚊子和狮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则寓言的寓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"/>
          <p:cNvSpPr/>
          <p:nvPr/>
        </p:nvSpPr>
        <p:spPr>
          <a:xfrm>
            <a:off x="3313800" y="83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52280" y="2209680"/>
            <a:ext cx="8280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初读</a:t>
            </a:r>
            <a:r>
              <a:rPr b="1" lang="en-US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读准确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同学轮流朗读课文，比一比谁读音准确，声音响亮，吐字清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"/>
          <p:cNvSpPr/>
          <p:nvPr/>
        </p:nvSpPr>
        <p:spPr>
          <a:xfrm>
            <a:off x="2474280" y="3808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学指导一：初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533520" y="2170080"/>
            <a:ext cx="78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智者胜：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蚊子善于抓住狮子的弱点，以己之长攻敌之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271440" y="4714920"/>
            <a:ext cx="886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骄者败：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蚊子战胜了狮子，它得意忘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"/>
          <p:cNvSpPr/>
          <p:nvPr/>
        </p:nvSpPr>
        <p:spPr>
          <a:xfrm>
            <a:off x="976320" y="173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学指导二：回答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"/>
          <p:cNvSpPr/>
          <p:nvPr/>
        </p:nvSpPr>
        <p:spPr>
          <a:xfrm>
            <a:off x="2663280" y="120348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蚊子为什么能打败狮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"/>
          <p:cNvSpPr/>
          <p:nvPr/>
        </p:nvSpPr>
        <p:spPr>
          <a:xfrm>
            <a:off x="2645280" y="3684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蚊子为什么会败给蜘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658800" y="318960"/>
            <a:ext cx="2895480" cy="1371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蚊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224320" y="318960"/>
            <a:ext cx="3048120" cy="1447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蚊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蜘蛛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415800" y="2371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层次：宣战    交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721800" y="340200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弱）飞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冲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战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376960" y="23702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俘     叹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150160" y="333684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强）飞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粘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被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77760" y="4329000"/>
            <a:ext cx="47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吹起喇叭，唱着凯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4299120" y="46530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597640" y="430848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粘住   被消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3456000" y="5310360"/>
            <a:ext cx="31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骄兵必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2"/>
          <p:cNvSpPr/>
          <p:nvPr/>
        </p:nvSpPr>
        <p:spPr>
          <a:xfrm>
            <a:off x="125280" y="3808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寓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诫人们：即使取得大的胜利也不能骄傲，不能得意忘形，说明了骄兵必败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"/>
          <p:cNvSpPr/>
          <p:nvPr/>
        </p:nvSpPr>
        <p:spPr>
          <a:xfrm>
            <a:off x="277920" y="32767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主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则寓言通过写蚊子战胜狮子却又被蜘蛛网粘住了的故事，告诫人们：即使取得大的胜利也不能骄傲，不能得意忘形，说明了骄兵必败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2"/>
          <p:cNvSpPr/>
          <p:nvPr/>
        </p:nvSpPr>
        <p:spPr>
          <a:xfrm>
            <a:off x="304920" y="1752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想象一个蚊子不被吃掉的奇迹情节，给寓言安排一个与课文不同的结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"/>
          <p:cNvSpPr/>
          <p:nvPr/>
        </p:nvSpPr>
        <p:spPr>
          <a:xfrm>
            <a:off x="1378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展开想象，续编情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2"/>
          <p:cNvSpPr txBox="1"/>
          <p:nvPr/>
        </p:nvSpPr>
        <p:spPr>
          <a:xfrm rot="5400000">
            <a:off x="-1491120" y="265104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寓言的特点</a:t>
            </a:r>
            <a:endParaRPr b="0" lang="en-US" sz="5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2514600" y="41148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劝喻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2514600" y="50292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讽谏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371600" y="7700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寓”是“寄托”的意思。寓言，通常是把深刻的道理寓于简单的故事之中，借此喻彼，借小喻大，借古喻今，惯于运用拟人的手法，语言简洁锋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穿井得一人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962520" y="38098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吕氏春秋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419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目标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识记本文出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了解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会翻译重点词语及全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积累一些文言词语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感悟寓言所蕴含的深刻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"/>
          <p:cNvSpPr/>
          <p:nvPr/>
        </p:nvSpPr>
        <p:spPr>
          <a:xfrm>
            <a:off x="228600" y="99072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在秦国丞相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吕不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持下，集合门客们编撰的一部黄老道家名著。全书共分十二卷，一百六十篇，二十余万字。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为十二纪、八  览、六论，注重博采众家学说，以道家黄老思想为主，兼收儒、墨、法、兵、农、纵横和阴阳各先秦诸子百家言论，所以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艺文志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将其列入杂家。吕不韦自己认为其中包括了天地万物古往今来的事理，所以称之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2399760" y="22860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学习指导一：了解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3"/>
          <p:cNvSpPr/>
          <p:nvPr/>
        </p:nvSpPr>
        <p:spPr>
          <a:xfrm>
            <a:off x="228600" y="762120"/>
            <a:ext cx="872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井得一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吕氏春秋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宋之丁氏，家无井而出溉汲，常一人居外。及其家穿井，告人曰：“吾穿井得一人。”有闻而传之者：“丁氏穿井得一人。”国人道之，闻之于宋君。宋君令人问之于丁氏，丁氏对曰：“得一人之使，非得一人于井中也。”求闻之若此，不若无闻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"/>
          <p:cNvSpPr/>
          <p:nvPr/>
        </p:nvSpPr>
        <p:spPr>
          <a:xfrm>
            <a:off x="2203200" y="9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朗读课文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4"/>
          <p:cNvSpPr/>
          <p:nvPr/>
        </p:nvSpPr>
        <p:spPr>
          <a:xfrm>
            <a:off x="3600360" y="24768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指导二：重点字词，翻译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4"/>
          <p:cNvSpPr/>
          <p:nvPr/>
        </p:nvSpPr>
        <p:spPr>
          <a:xfrm>
            <a:off x="932040" y="1158840"/>
            <a:ext cx="182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汲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溉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家穿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家穿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其家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4"/>
          <p:cNvSpPr/>
          <p:nvPr/>
        </p:nvSpPr>
        <p:spPr>
          <a:xfrm>
            <a:off x="3615840" y="11304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浇灌、灌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5"/>
          <p:cNvSpPr/>
          <p:nvPr/>
        </p:nvSpPr>
        <p:spPr>
          <a:xfrm>
            <a:off x="2727360" y="168588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井里取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6"/>
          <p:cNvSpPr/>
          <p:nvPr/>
        </p:nvSpPr>
        <p:spPr>
          <a:xfrm>
            <a:off x="2605680" y="2249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打水浇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3951000" y="2787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留，停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4"/>
          <p:cNvSpPr/>
          <p:nvPr/>
        </p:nvSpPr>
        <p:spPr>
          <a:xfrm>
            <a:off x="3997080" y="3338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待，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"/>
          <p:cNvSpPr/>
          <p:nvPr/>
        </p:nvSpPr>
        <p:spPr>
          <a:xfrm>
            <a:off x="3951000" y="38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4077720" y="44467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挖掘、开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2567520" y="4986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1"/>
          <p:cNvSpPr/>
          <p:nvPr/>
        </p:nvSpPr>
        <p:spPr>
          <a:xfrm>
            <a:off x="195120" y="2523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宋之丁氏，家无井而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溉汲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常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居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。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及其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家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井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告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人曰：“吾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井得一人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"/>
          <p:cNvSpPr/>
          <p:nvPr/>
        </p:nvSpPr>
        <p:spPr>
          <a:xfrm>
            <a:off x="290520" y="2197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国有个姓丁的人家，家里没有井，要出门到外面打水浇田，经常要有一个人停留在外面做这件事。等到他家挖了井，他告诉别人说：“我挖井得到一个人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"/>
          <p:cNvSpPr/>
          <p:nvPr/>
        </p:nvSpPr>
        <p:spPr>
          <a:xfrm>
            <a:off x="268200" y="4694400"/>
            <a:ext cx="86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层：宋国姓丁的人家因为要到外面打水浇田，常要占一个劳动力。后来自家打了井，趣说为“穿井得一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4"/>
          <p:cNvSpPr/>
          <p:nvPr/>
        </p:nvSpPr>
        <p:spPr>
          <a:xfrm>
            <a:off x="894240" y="487440"/>
            <a:ext cx="210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传之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闻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闻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之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闻而传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国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道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于宋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之于宋君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4"/>
          <p:cNvSpPr/>
          <p:nvPr/>
        </p:nvSpPr>
        <p:spPr>
          <a:xfrm>
            <a:off x="4606920" y="4618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"/>
          <p:cNvSpPr/>
          <p:nvPr/>
        </p:nvSpPr>
        <p:spPr>
          <a:xfrm>
            <a:off x="3689280" y="10224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4154760" y="16113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顺承连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5"/>
          <p:cNvSpPr/>
          <p:nvPr/>
        </p:nvSpPr>
        <p:spPr>
          <a:xfrm>
            <a:off x="4772880" y="21528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指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"/>
          <p:cNvSpPr/>
          <p:nvPr/>
        </p:nvSpPr>
        <p:spPr>
          <a:xfrm>
            <a:off x="4330080" y="27273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指居住在国都中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7"/>
          <p:cNvSpPr/>
          <p:nvPr/>
        </p:nvSpPr>
        <p:spPr>
          <a:xfrm>
            <a:off x="2715480" y="327672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讲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8"/>
          <p:cNvSpPr/>
          <p:nvPr/>
        </p:nvSpPr>
        <p:spPr>
          <a:xfrm>
            <a:off x="3360240" y="4332240"/>
            <a:ext cx="23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。这里是“使知道”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9"/>
          <p:cNvSpPr/>
          <p:nvPr/>
        </p:nvSpPr>
        <p:spPr>
          <a:xfrm>
            <a:off x="4156920" y="54673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宋国的国君知道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1"/>
          <p:cNvSpPr/>
          <p:nvPr/>
        </p:nvSpPr>
        <p:spPr>
          <a:xfrm>
            <a:off x="157320" y="380880"/>
            <a:ext cx="8986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</a:t>
            </a: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</a:t>
            </a: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者：“丁氏</a:t>
            </a: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得一人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国人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，</a:t>
            </a: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于宋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"/>
          <p:cNvSpPr/>
          <p:nvPr/>
        </p:nvSpPr>
        <p:spPr>
          <a:xfrm>
            <a:off x="177840" y="20908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人听说并传播这件事：“丁家挖井挖到一个人。”居住在国都中的人都在讲述这件事，使宋国的国君知道这件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339840" y="4572000"/>
            <a:ext cx="862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二层：别人并未懂这话，就把丁氏的话传开了，直传到国君那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4"/>
          <p:cNvSpPr/>
          <p:nvPr/>
        </p:nvSpPr>
        <p:spPr>
          <a:xfrm>
            <a:off x="1166040" y="266760"/>
            <a:ext cx="292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令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问之于丁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令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于丁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令人问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丁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丁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一人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非得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闻之若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若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闻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无闻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若无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5094360" y="2523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命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4"/>
          <p:cNvSpPr/>
          <p:nvPr/>
        </p:nvSpPr>
        <p:spPr>
          <a:xfrm>
            <a:off x="4797720" y="131112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4"/>
          <p:cNvSpPr/>
          <p:nvPr/>
        </p:nvSpPr>
        <p:spPr>
          <a:xfrm>
            <a:off x="4983120" y="7491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询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3313800" y="188136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应答。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4"/>
          <p:cNvSpPr/>
          <p:nvPr/>
        </p:nvSpPr>
        <p:spPr>
          <a:xfrm>
            <a:off x="3199680" y="24606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3898440" y="295272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4"/>
          <p:cNvSpPr/>
          <p:nvPr/>
        </p:nvSpPr>
        <p:spPr>
          <a:xfrm>
            <a:off x="3862440" y="35434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寻找，寻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3862440" y="40640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"/>
          <p:cNvSpPr/>
          <p:nvPr/>
        </p:nvSpPr>
        <p:spPr>
          <a:xfrm>
            <a:off x="3673800" y="46148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像，好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"/>
          <p:cNvSpPr/>
          <p:nvPr/>
        </p:nvSpPr>
        <p:spPr>
          <a:xfrm>
            <a:off x="3170160" y="51624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4"/>
          <p:cNvSpPr/>
          <p:nvPr/>
        </p:nvSpPr>
        <p:spPr>
          <a:xfrm>
            <a:off x="3816360" y="57135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3"/>
          <p:cNvSpPr/>
          <p:nvPr/>
        </p:nvSpPr>
        <p:spPr>
          <a:xfrm>
            <a:off x="382680" y="22860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令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丁氏，丁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曰：“得一人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非得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中也。”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求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无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"/>
          <p:cNvSpPr/>
          <p:nvPr/>
        </p:nvSpPr>
        <p:spPr>
          <a:xfrm>
            <a:off x="304920" y="232416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宋国的国君命令人向丁家询问这件事，丁家回答说：“得到一个人的劳力，不是从井中挖出一个人。”寻求听说像这样的消息，不如不听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5"/>
          <p:cNvSpPr/>
          <p:nvPr/>
        </p:nvSpPr>
        <p:spPr>
          <a:xfrm>
            <a:off x="533520" y="50990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层：丁氏告诉国君使者自己的话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真正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28600" y="457200"/>
            <a:ext cx="852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伊索和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伊索寓言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传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伊索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公元前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古希腊人，善于讲动物故事。公元前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末，希腊寓言开始归于他的名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伊索寓言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古希腊寓言的汇编。其中大多是动物故事，反映了平民或奴隶的思想感情。耶稣会传教士在明代把伊索寓言传入中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1090440" y="289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指导三：质疑答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3"/>
          <p:cNvSpPr/>
          <p:nvPr/>
        </p:nvSpPr>
        <p:spPr>
          <a:xfrm>
            <a:off x="152280" y="1276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丁家穿井后，告人曰：“吾穿井得一人。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"/>
          <p:cNvSpPr/>
          <p:nvPr/>
        </p:nvSpPr>
        <p:spPr>
          <a:xfrm>
            <a:off x="4083840" y="27846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意思是：他家挖了井，省了一个劳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5"/>
          <p:cNvSpPr/>
          <p:nvPr/>
        </p:nvSpPr>
        <p:spPr>
          <a:xfrm>
            <a:off x="3886560" y="384984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传话的人把这句话听成了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"/>
          <p:cNvSpPr/>
          <p:nvPr/>
        </p:nvSpPr>
        <p:spPr>
          <a:xfrm>
            <a:off x="3620880" y="4938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听成了：丁家挖井挖出了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2"/>
          <p:cNvSpPr/>
          <p:nvPr/>
        </p:nvSpPr>
        <p:spPr>
          <a:xfrm>
            <a:off x="1818720" y="380880"/>
            <a:ext cx="52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这则寓言故事说明了一个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3"/>
          <p:cNvSpPr/>
          <p:nvPr/>
        </p:nvSpPr>
        <p:spPr>
          <a:xfrm>
            <a:off x="609480" y="1676520"/>
            <a:ext cx="781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寓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道听途说的事情不要轻易相信，不要轻易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WordArt 6"/>
          <p:cNvSpPr txBox="1"/>
          <p:nvPr/>
        </p:nvSpPr>
        <p:spPr>
          <a:xfrm>
            <a:off x="1763640" y="263700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58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"/>
              </a:rPr>
              <a:t>杞人忧天</a:t>
            </a:r>
            <a:endParaRPr b="1" lang="en-US" sz="4000" spc="1" strike="noStrike">
              <a:ln w="158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40" name="WordArt 10"/>
          <p:cNvSpPr txBox="1"/>
          <p:nvPr/>
        </p:nvSpPr>
        <p:spPr>
          <a:xfrm>
            <a:off x="2484360" y="314172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4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1" strike="noStrike">
              <a:ln w="1260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348000" y="3048120"/>
            <a:ext cx="131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8" descr="图片1"/>
          <p:cNvPicPr/>
          <p:nvPr/>
        </p:nvPicPr>
        <p:blipFill>
          <a:blip r:embed="rId1"/>
          <a:stretch/>
        </p:blipFill>
        <p:spPr>
          <a:xfrm>
            <a:off x="60480" y="1447920"/>
            <a:ext cx="2361960" cy="47242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9"/>
          <p:cNvSpPr/>
          <p:nvPr/>
        </p:nvSpPr>
        <p:spPr>
          <a:xfrm>
            <a:off x="2514600" y="80964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相传战国郑国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列御寇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著。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艺文志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著录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子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内容多为民间故事、寓言和神话传说。内有很多脍炙人口而又有教育意义的故事，如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儿童辩日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歧路亡羊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杞人忧天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愚公移山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，都是很有价值的文学遗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1"/>
          <p:cNvSpPr/>
          <p:nvPr/>
        </p:nvSpPr>
        <p:spPr>
          <a:xfrm>
            <a:off x="60480" y="13320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学指导一：作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60480" y="201456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杞国有人忧天地崩坠，身亡所寄，废寝食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有忧彼之所忧者，因往晓之，曰：“天，积气耳，亡处亡气。若屈伸呼吸，终日在天中行止，奈何忧崩坠乎？”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其人曰：“天果积气，日月星宿，不当坠耶？” 　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"/>
          <p:cNvSpPr/>
          <p:nvPr/>
        </p:nvSpPr>
        <p:spPr>
          <a:xfrm>
            <a:off x="2843280" y="784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杞人忧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"/>
          <p:cNvSpPr/>
          <p:nvPr/>
        </p:nvSpPr>
        <p:spPr>
          <a:xfrm>
            <a:off x="4191120" y="1430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列子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4"/>
          <p:cNvSpPr/>
          <p:nvPr/>
        </p:nvSpPr>
        <p:spPr>
          <a:xfrm>
            <a:off x="60480" y="133200"/>
            <a:ext cx="60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学指导一：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2"/>
          <p:cNvSpPr/>
          <p:nvPr/>
        </p:nvSpPr>
        <p:spPr>
          <a:xfrm>
            <a:off x="30240" y="762120"/>
            <a:ext cx="899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之者曰：“日月星宿，亦积气中之有光耀者，只使坠，亦不能有所中伤。”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人曰：“奈地坏何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之者曰：“地，积块耳，充塞四虚，亡处亡块。若躇步跐蹈，终日在地上行止，奈何忧其坏？”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 其人舍然大喜，晓之者亦舍然大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1"/>
          <p:cNvSpPr/>
          <p:nvPr/>
        </p:nvSpPr>
        <p:spPr>
          <a:xfrm>
            <a:off x="0" y="341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学指导二：重点字词，翻译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"/>
          <p:cNvSpPr/>
          <p:nvPr/>
        </p:nvSpPr>
        <p:spPr>
          <a:xfrm>
            <a:off x="339840" y="1554120"/>
            <a:ext cx="304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地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崩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地崩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身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身亡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身亡所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寝食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废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食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废寝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4"/>
          <p:cNvSpPr/>
          <p:nvPr/>
        </p:nvSpPr>
        <p:spPr>
          <a:xfrm>
            <a:off x="2892600" y="15303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崩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4"/>
          <p:cNvSpPr/>
          <p:nvPr/>
        </p:nvSpPr>
        <p:spPr>
          <a:xfrm>
            <a:off x="3624480" y="20415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坠落，陷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4"/>
          <p:cNvSpPr/>
          <p:nvPr/>
        </p:nvSpPr>
        <p:spPr>
          <a:xfrm>
            <a:off x="3354480" y="26290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，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4"/>
          <p:cNvSpPr/>
          <p:nvPr/>
        </p:nvSpPr>
        <p:spPr>
          <a:xfrm>
            <a:off x="4140360" y="3743280"/>
            <a:ext cx="8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己没有地方依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4"/>
          <p:cNvSpPr/>
          <p:nvPr/>
        </p:nvSpPr>
        <p:spPr>
          <a:xfrm>
            <a:off x="3585240" y="43005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废弃，停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4"/>
          <p:cNvSpPr/>
          <p:nvPr/>
        </p:nvSpPr>
        <p:spPr>
          <a:xfrm>
            <a:off x="3554640" y="31924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依托，依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4"/>
          <p:cNvSpPr/>
          <p:nvPr/>
        </p:nvSpPr>
        <p:spPr>
          <a:xfrm>
            <a:off x="2932200" y="48718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睡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2840760" y="54450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吃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1"/>
          <p:cNvSpPr/>
          <p:nvPr/>
        </p:nvSpPr>
        <p:spPr>
          <a:xfrm>
            <a:off x="380880" y="5335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杞国有人忧天地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崩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身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寄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寝食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2"/>
          <p:cNvSpPr/>
          <p:nvPr/>
        </p:nvSpPr>
        <p:spPr>
          <a:xfrm>
            <a:off x="304920" y="243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杞国有个人担忧天会崩塌地会陷落，自己没有地方依附，所以睡不好觉，吃不下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文本框 1"/>
          <p:cNvSpPr/>
          <p:nvPr/>
        </p:nvSpPr>
        <p:spPr>
          <a:xfrm>
            <a:off x="76320" y="380880"/>
            <a:ext cx="441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有忧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彼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所忧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往晓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往晓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积气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亡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屈伸呼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终日在天中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奈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忧崩坠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4"/>
          <p:cNvSpPr/>
          <p:nvPr/>
        </p:nvSpPr>
        <p:spPr>
          <a:xfrm>
            <a:off x="4274640" y="3794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4"/>
          <p:cNvSpPr/>
          <p:nvPr/>
        </p:nvSpPr>
        <p:spPr>
          <a:xfrm>
            <a:off x="3221280" y="93492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是，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"/>
          <p:cNvSpPr/>
          <p:nvPr/>
        </p:nvSpPr>
        <p:spPr>
          <a:xfrm>
            <a:off x="3270960" y="14889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知，开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5"/>
          <p:cNvSpPr/>
          <p:nvPr/>
        </p:nvSpPr>
        <p:spPr>
          <a:xfrm>
            <a:off x="3260520" y="1994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5"/>
          <p:cNvSpPr/>
          <p:nvPr/>
        </p:nvSpPr>
        <p:spPr>
          <a:xfrm>
            <a:off x="3019320" y="2567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聚积的气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5"/>
          <p:cNvSpPr/>
          <p:nvPr/>
        </p:nvSpPr>
        <p:spPr>
          <a:xfrm>
            <a:off x="3295440" y="3621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，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5"/>
          <p:cNvSpPr/>
          <p:nvPr/>
        </p:nvSpPr>
        <p:spPr>
          <a:xfrm>
            <a:off x="3017880" y="4184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5"/>
          <p:cNvSpPr/>
          <p:nvPr/>
        </p:nvSpPr>
        <p:spPr>
          <a:xfrm>
            <a:off x="4937040" y="4753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动，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5"/>
          <p:cNvSpPr/>
          <p:nvPr/>
        </p:nvSpPr>
        <p:spPr>
          <a:xfrm>
            <a:off x="4726080" y="53578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何，为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4"/>
          <p:cNvSpPr/>
          <p:nvPr/>
        </p:nvSpPr>
        <p:spPr>
          <a:xfrm>
            <a:off x="2276640" y="30844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罢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1"/>
          <p:cNvSpPr/>
          <p:nvPr/>
        </p:nvSpPr>
        <p:spPr>
          <a:xfrm>
            <a:off x="152280" y="2743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又有一个为他的担忧而担忧的人，于是就去开导他，说：“天，聚积的气体罢了，没有一个地方没有气体。你一举一动，一呼一吸，终日在天空中活动，为什么担忧天会崩塌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2"/>
          <p:cNvSpPr/>
          <p:nvPr/>
        </p:nvSpPr>
        <p:spPr>
          <a:xfrm>
            <a:off x="155520" y="457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有忧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彼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所忧者，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往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，曰：“天，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积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耳，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气。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屈伸呼吸，终日在天中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行止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奈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忧崩坠乎？”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28-18-0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WordArt 7"/>
          <p:cNvSpPr txBox="1"/>
          <p:nvPr/>
        </p:nvSpPr>
        <p:spPr>
          <a:xfrm>
            <a:off x="2484360" y="2421000"/>
            <a:ext cx="373392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赫尔墨斯和雕像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文本框 1"/>
          <p:cNvSpPr/>
          <p:nvPr/>
        </p:nvSpPr>
        <p:spPr>
          <a:xfrm>
            <a:off x="76320" y="38088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积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坠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者曰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者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只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亦不能有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伤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4"/>
          <p:cNvSpPr/>
          <p:nvPr/>
        </p:nvSpPr>
        <p:spPr>
          <a:xfrm>
            <a:off x="1969560" y="3808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4"/>
          <p:cNvSpPr/>
          <p:nvPr/>
        </p:nvSpPr>
        <p:spPr>
          <a:xfrm>
            <a:off x="2297880" y="91440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4"/>
          <p:cNvSpPr/>
          <p:nvPr/>
        </p:nvSpPr>
        <p:spPr>
          <a:xfrm>
            <a:off x="2598120" y="141768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应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5"/>
          <p:cNvSpPr/>
          <p:nvPr/>
        </p:nvSpPr>
        <p:spPr>
          <a:xfrm>
            <a:off x="3291120" y="20210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知，开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6"/>
          <p:cNvSpPr/>
          <p:nvPr/>
        </p:nvSpPr>
        <p:spPr>
          <a:xfrm>
            <a:off x="2975760" y="25970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7"/>
          <p:cNvSpPr/>
          <p:nvPr/>
        </p:nvSpPr>
        <p:spPr>
          <a:xfrm>
            <a:off x="2633400" y="3100320"/>
            <a:ext cx="10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8"/>
          <p:cNvSpPr/>
          <p:nvPr/>
        </p:nvSpPr>
        <p:spPr>
          <a:xfrm>
            <a:off x="996480" y="363204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9"/>
          <p:cNvSpPr/>
          <p:nvPr/>
        </p:nvSpPr>
        <p:spPr>
          <a:xfrm>
            <a:off x="2806920" y="422280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纵使，即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3926880" y="47721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矩形 1"/>
          <p:cNvSpPr/>
          <p:nvPr/>
        </p:nvSpPr>
        <p:spPr>
          <a:xfrm>
            <a:off x="0" y="3049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：“天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积气，日月星宿，不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坠耶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之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曰：“日月星宿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积气中之有光耀者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只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坠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能有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伤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” 　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2"/>
          <p:cNvSpPr/>
          <p:nvPr/>
        </p:nvSpPr>
        <p:spPr>
          <a:xfrm>
            <a:off x="25560" y="32004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个人说：“天如果是聚积的气体，日月星宿，不应当坠落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开导他的人说：“日月星宿，也是聚积的气体中能发光的东西，即使坠落了，也不能有所伤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文本框 1"/>
          <p:cNvSpPr/>
          <p:nvPr/>
        </p:nvSpPr>
        <p:spPr>
          <a:xfrm>
            <a:off x="152280" y="304920"/>
            <a:ext cx="441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地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块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充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充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四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亡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躇步跐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躇步跐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大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舍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4"/>
          <p:cNvSpPr/>
          <p:nvPr/>
        </p:nvSpPr>
        <p:spPr>
          <a:xfrm>
            <a:off x="2046600" y="30492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4"/>
          <p:cNvSpPr/>
          <p:nvPr/>
        </p:nvSpPr>
        <p:spPr>
          <a:xfrm>
            <a:off x="3070800" y="838080"/>
            <a:ext cx="16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怎么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4"/>
          <p:cNvSpPr/>
          <p:nvPr/>
        </p:nvSpPr>
        <p:spPr>
          <a:xfrm>
            <a:off x="2723400" y="1400040"/>
            <a:ext cx="8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聚集的土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"/>
          <p:cNvSpPr/>
          <p:nvPr/>
        </p:nvSpPr>
        <p:spPr>
          <a:xfrm>
            <a:off x="2676600" y="1960560"/>
            <a:ext cx="6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填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"/>
          <p:cNvSpPr/>
          <p:nvPr/>
        </p:nvSpPr>
        <p:spPr>
          <a:xfrm>
            <a:off x="2797200" y="2494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四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5"/>
          <p:cNvSpPr/>
          <p:nvPr/>
        </p:nvSpPr>
        <p:spPr>
          <a:xfrm>
            <a:off x="3239280" y="3025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无，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3021120" y="3587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5"/>
          <p:cNvSpPr/>
          <p:nvPr/>
        </p:nvSpPr>
        <p:spPr>
          <a:xfrm>
            <a:off x="5530320" y="415764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四个字都是踩、踏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"/>
          <p:cNvSpPr/>
          <p:nvPr/>
        </p:nvSpPr>
        <p:spPr>
          <a:xfrm>
            <a:off x="3272040" y="47116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同“释”，解除、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3956760" y="5234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消除疑虑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矩形 1"/>
          <p:cNvSpPr/>
          <p:nvPr/>
        </p:nvSpPr>
        <p:spPr>
          <a:xfrm>
            <a:off x="0" y="-19080"/>
            <a:ext cx="89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：“奈地坏何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者曰：“地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块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耳，充塞四虚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亡块。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躇步跐蹈，终日在地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止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奈何忧其坏？”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 其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舍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喜，晓之者亦舍然大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2"/>
          <p:cNvSpPr/>
          <p:nvPr/>
        </p:nvSpPr>
        <p:spPr>
          <a:xfrm>
            <a:off x="0" y="2843280"/>
            <a:ext cx="89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个人说：“地塌陷了怎么办？”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开导他的人说：“地，是聚积的土块罢了，填满四方，没有一个地方没有土块。你踩踏行走，终日在地上活动，为什么担忧地会塌陷呢？”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个人消除了疑虑，很高兴，开导他的人也消除了疑虑，也很高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R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WordArt 3"/>
          <p:cNvSpPr txBox="1"/>
          <p:nvPr/>
        </p:nvSpPr>
        <p:spPr>
          <a:xfrm>
            <a:off x="461880" y="438120"/>
            <a:ext cx="18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课文分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174600" y="1925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事起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30320" y="308628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事发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74600" y="43657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事结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291636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2273400" y="3087720"/>
            <a:ext cx="72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又有忧彼之所忧者，因往晓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2155680" y="437364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人舍然大喜，晓之者亦舍然大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2311560" y="1908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杞国有人忧天地崩坠，身无所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182880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杞人忧天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2"/>
          <p:cNvSpPr/>
          <p:nvPr/>
        </p:nvSpPr>
        <p:spPr>
          <a:xfrm>
            <a:off x="352440" y="2666880"/>
            <a:ext cx="8300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寓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讽刺那些害怕不可能发生的灾祸、徒然自扰的庸人。劝诫人们不要为不必要忧虑的事情担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80880" y="228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1965960" y="150984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杞人忧天：指为不必要忧虑的事情而忧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图片4"/>
          <p:cNvPicPr/>
          <p:nvPr/>
        </p:nvPicPr>
        <p:blipFill>
          <a:blip r:embed="rId2"/>
          <a:stretch/>
        </p:blipFill>
        <p:spPr>
          <a:xfrm>
            <a:off x="468360" y="1413000"/>
            <a:ext cx="1655640" cy="2016000"/>
          </a:xfrm>
          <a:prstGeom prst="rect">
            <a:avLst/>
          </a:prstGeom>
          <a:ln w="0">
            <a:noFill/>
          </a:ln>
        </p:spPr>
      </p:pic>
      <p:sp>
        <p:nvSpPr>
          <p:cNvPr id="715" name="WordArt 4"/>
          <p:cNvSpPr txBox="1"/>
          <p:nvPr/>
        </p:nvSpPr>
        <p:spPr>
          <a:xfrm>
            <a:off x="3851280" y="1197000"/>
            <a:ext cx="216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课文探讨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2416320" y="2274840"/>
            <a:ext cx="643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审读课文</a:t>
            </a:r>
            <a:r>
              <a:rPr b="1" lang="en-GB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根据自已掌握的自然知识，小组合作探讨，看看文中“晓之者”的话哪些是科学的，哪些是不科学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3"/>
          <p:cNvSpPr/>
          <p:nvPr/>
        </p:nvSpPr>
        <p:spPr>
          <a:xfrm>
            <a:off x="2308320" y="4158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天（宇宙）是没有穷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2300400" y="119052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日月星辰有的是气体团，有的是固体团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它们都在各自的轨道上运行，它们有的发光，有的不发光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2340000" y="335772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7" descr="图片4"/>
          <p:cNvPicPr/>
          <p:nvPr/>
        </p:nvPicPr>
        <p:blipFill>
          <a:blip r:embed="rId1"/>
          <a:stretch/>
        </p:blipFill>
        <p:spPr>
          <a:xfrm>
            <a:off x="0" y="219240"/>
            <a:ext cx="2050920" cy="2663640"/>
          </a:xfrm>
          <a:prstGeom prst="rect">
            <a:avLst/>
          </a:prstGeom>
          <a:ln w="0">
            <a:noFill/>
          </a:ln>
        </p:spPr>
      </p:pic>
      <p:sp>
        <p:nvSpPr>
          <p:cNvPr id="721" name="矩形 2"/>
          <p:cNvSpPr/>
          <p:nvPr/>
        </p:nvSpPr>
        <p:spPr>
          <a:xfrm>
            <a:off x="152280" y="3629160"/>
            <a:ext cx="92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以太阳为中心，围绕太阳运转的九大行星（如地球）共同组成了太阳系；太阳系及其他恒星系组成了银河系；银河系及河外星系共同构成了茫茫宇宙。月亮是地球的卫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2009918211812738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WordArt 3"/>
          <p:cNvSpPr txBox="1"/>
          <p:nvPr/>
        </p:nvSpPr>
        <p:spPr>
          <a:xfrm>
            <a:off x="932040" y="604800"/>
            <a:ext cx="23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本课小结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762120" y="1676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今天我们认识了似乎是“傻子”的杞人，但从现在看来他却是多么有远见的人，如今的地球已经有很多问题引起了我们的关注，大气污染，臭氧层破坏，全球气温升高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让我们为今天的环境贡献出自己的一份力量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文本框 1"/>
          <p:cNvSpPr/>
          <p:nvPr/>
        </p:nvSpPr>
        <p:spPr>
          <a:xfrm>
            <a:off x="2671920" y="1890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古今异义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"/>
          <p:cNvSpPr/>
          <p:nvPr/>
        </p:nvSpPr>
        <p:spPr>
          <a:xfrm>
            <a:off x="25560" y="13730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得一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左大括号 3"/>
          <p:cNvSpPr/>
          <p:nvPr/>
        </p:nvSpPr>
        <p:spPr>
          <a:xfrm>
            <a:off x="2590920" y="1066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914400"/>
              <a:gd name="textAreaBottom" fmla="*/ 908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1f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左大括号 5"/>
          <p:cNvSpPr/>
          <p:nvPr/>
        </p:nvSpPr>
        <p:spPr>
          <a:xfrm>
            <a:off x="2666880" y="21337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1f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左大括号 6"/>
          <p:cNvSpPr/>
          <p:nvPr/>
        </p:nvSpPr>
        <p:spPr>
          <a:xfrm>
            <a:off x="4068720" y="2355840"/>
            <a:ext cx="46080" cy="30492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304920"/>
              <a:gd name="textAreaBottom" fmla="*/ 3038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1f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左中括号 12"/>
          <p:cNvSpPr/>
          <p:nvPr/>
        </p:nvSpPr>
        <p:spPr>
          <a:xfrm>
            <a:off x="5410080" y="2023920"/>
            <a:ext cx="533520" cy="914400"/>
          </a:xfrm>
          <a:custGeom>
            <a:avLst/>
            <a:gdLst>
              <a:gd name="textAreaLeft" fmla="*/ 156600 w 533520"/>
              <a:gd name="textAreaRight" fmla="*/ 533880 w 533520"/>
              <a:gd name="textAreaTop" fmla="*/ 21960 h 914400"/>
              <a:gd name="textAreaBottom" fmla="*/ 892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25"/>
                  <a:pt x="0" y="1050"/>
                </a:cubicBezTo>
                <a:lnTo>
                  <a:pt x="0" y="20550"/>
                </a:lnTo>
                <a:cubicBezTo>
                  <a:pt x="0" y="21075"/>
                  <a:pt x="10800" y="21600"/>
                  <a:pt x="21600" y="21600"/>
                </a:cubicBezTo>
              </a:path>
            </a:pathLst>
          </a:custGeom>
          <a:noFill/>
          <a:ln w="6480">
            <a:solidFill>
              <a:srgbClr val="e1f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13"/>
          <p:cNvSpPr/>
          <p:nvPr/>
        </p:nvSpPr>
        <p:spPr>
          <a:xfrm>
            <a:off x="2286000" y="109692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古义：挖掘，开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今义：把衣服鞋袜等物套在身体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15"/>
          <p:cNvSpPr/>
          <p:nvPr/>
        </p:nvSpPr>
        <p:spPr>
          <a:xfrm>
            <a:off x="79200" y="27748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身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16"/>
          <p:cNvSpPr/>
          <p:nvPr/>
        </p:nvSpPr>
        <p:spPr>
          <a:xfrm>
            <a:off x="2209680" y="2525760"/>
            <a:ext cx="40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古义：无，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今义：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7"/>
          <p:cNvSpPr/>
          <p:nvPr/>
        </p:nvSpPr>
        <p:spPr>
          <a:xfrm>
            <a:off x="177840" y="426888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屈伸呼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18"/>
          <p:cNvSpPr/>
          <p:nvPr/>
        </p:nvSpPr>
        <p:spPr>
          <a:xfrm>
            <a:off x="2666880" y="411480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古义：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今义：像，好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914400"/>
            <a:ext cx="84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能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能理解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赫尔墨斯和雕像者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寓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1"/>
          <p:cNvSpPr/>
          <p:nvPr/>
        </p:nvSpPr>
        <p:spPr>
          <a:xfrm>
            <a:off x="2590920" y="22860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词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"/>
          <p:cNvSpPr/>
          <p:nvPr/>
        </p:nvSpPr>
        <p:spPr>
          <a:xfrm>
            <a:off x="47520" y="11606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传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于宋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3"/>
          <p:cNvSpPr/>
          <p:nvPr/>
        </p:nvSpPr>
        <p:spPr>
          <a:xfrm>
            <a:off x="3019320" y="1128600"/>
            <a:ext cx="32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"/>
          <p:cNvSpPr/>
          <p:nvPr/>
        </p:nvSpPr>
        <p:spPr>
          <a:xfrm>
            <a:off x="2590920" y="1760400"/>
            <a:ext cx="46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，听说，这里是“使知道”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5"/>
          <p:cNvSpPr/>
          <p:nvPr/>
        </p:nvSpPr>
        <p:spPr>
          <a:xfrm>
            <a:off x="152280" y="3124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闻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宋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6"/>
          <p:cNvSpPr/>
          <p:nvPr/>
        </p:nvSpPr>
        <p:spPr>
          <a:xfrm>
            <a:off x="2612880" y="312408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指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7"/>
          <p:cNvSpPr/>
          <p:nvPr/>
        </p:nvSpPr>
        <p:spPr>
          <a:xfrm>
            <a:off x="2590920" y="3678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助词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8"/>
          <p:cNvSpPr/>
          <p:nvPr/>
        </p:nvSpPr>
        <p:spPr>
          <a:xfrm>
            <a:off x="160200" y="4724280"/>
            <a:ext cx="34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星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终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天中行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9"/>
          <p:cNvSpPr/>
          <p:nvPr/>
        </p:nvSpPr>
        <p:spPr>
          <a:xfrm>
            <a:off x="2260440" y="472428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0"/>
          <p:cNvSpPr/>
          <p:nvPr/>
        </p:nvSpPr>
        <p:spPr>
          <a:xfrm>
            <a:off x="3505320" y="529128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白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文本框 1"/>
          <p:cNvSpPr/>
          <p:nvPr/>
        </p:nvSpPr>
        <p:spPr>
          <a:xfrm>
            <a:off x="0" y="117144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令人问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丁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非得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中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"/>
          <p:cNvSpPr/>
          <p:nvPr/>
        </p:nvSpPr>
        <p:spPr>
          <a:xfrm>
            <a:off x="2590920" y="22860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词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3"/>
          <p:cNvSpPr/>
          <p:nvPr/>
        </p:nvSpPr>
        <p:spPr>
          <a:xfrm>
            <a:off x="2209680" y="437508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知，开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4"/>
          <p:cNvSpPr/>
          <p:nvPr/>
        </p:nvSpPr>
        <p:spPr>
          <a:xfrm>
            <a:off x="4073400" y="1773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0" y="2676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奈何忧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6"/>
          <p:cNvSpPr/>
          <p:nvPr/>
        </p:nvSpPr>
        <p:spPr>
          <a:xfrm>
            <a:off x="1739880" y="26305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7"/>
          <p:cNvSpPr/>
          <p:nvPr/>
        </p:nvSpPr>
        <p:spPr>
          <a:xfrm>
            <a:off x="2419200" y="321156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代词，它，指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8"/>
          <p:cNvSpPr/>
          <p:nvPr/>
        </p:nvSpPr>
        <p:spPr>
          <a:xfrm>
            <a:off x="19080" y="437508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春眠不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家喻户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9"/>
          <p:cNvSpPr/>
          <p:nvPr/>
        </p:nvSpPr>
        <p:spPr>
          <a:xfrm>
            <a:off x="4425840" y="112716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0"/>
          <p:cNvSpPr/>
          <p:nvPr/>
        </p:nvSpPr>
        <p:spPr>
          <a:xfrm>
            <a:off x="2556000" y="489276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天刚亮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11"/>
          <p:cNvSpPr/>
          <p:nvPr/>
        </p:nvSpPr>
        <p:spPr>
          <a:xfrm>
            <a:off x="2158920" y="5483160"/>
            <a:ext cx="19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文本框 1"/>
          <p:cNvSpPr/>
          <p:nvPr/>
        </p:nvSpPr>
        <p:spPr>
          <a:xfrm>
            <a:off x="198360" y="162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省略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2"/>
          <p:cNvSpPr/>
          <p:nvPr/>
        </p:nvSpPr>
        <p:spPr>
          <a:xfrm>
            <a:off x="210960" y="1003320"/>
            <a:ext cx="87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一人居外（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外”前省略介词“于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告人曰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省略主语“丁氏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3"/>
          <p:cNvSpPr/>
          <p:nvPr/>
        </p:nvSpPr>
        <p:spPr>
          <a:xfrm>
            <a:off x="227160" y="23972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倒装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"/>
          <p:cNvSpPr/>
          <p:nvPr/>
        </p:nvSpPr>
        <p:spPr>
          <a:xfrm>
            <a:off x="198360" y="3265560"/>
            <a:ext cx="825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宋君令人问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丁氏（介词结构后置：   应为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宋君令人于丁氏问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非得一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井中也（介词结构后置：      应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非于井中得一人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89200" y="232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华文中宋"/>
                <a:ea typeface="华文中宋"/>
              </a:rPr>
              <a:t>当堂检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1503360" y="1762200"/>
            <a:ext cx="498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解释红色的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家穿井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人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    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不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无闻也 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5235480" y="2262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待，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1"/>
          <p:cNvSpPr/>
          <p:nvPr/>
        </p:nvSpPr>
        <p:spPr>
          <a:xfrm>
            <a:off x="4183560" y="284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讲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4183560" y="3368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华文中宋"/>
                <a:ea typeface="华文中宋"/>
              </a:rPr>
              <a:t>二、翻译句子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国人道之，闻之于宋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得一人之使，非得一人于井中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___________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"/>
          <p:cNvSpPr/>
          <p:nvPr/>
        </p:nvSpPr>
        <p:spPr>
          <a:xfrm>
            <a:off x="304920" y="2286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居住在国都中的人都在讲述这件事，使宋国的国君知道这件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0" y="450540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得到一个人的劳力，不是从井中挖出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1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宙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希腊神话中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众神之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希腊神话说他居住在奥林匹斯山，以雷电为武器，维持着天地间的秩序，公牛和鹰是他的标志。他的兄弟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波西顿和哈德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掌管海洋和地狱；女神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赫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宙斯的妻子；他的孩子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赫费斯托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火神；宙斯还和其他女神生下不少儿女，如正义和艺术的保护者、太阳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阿波罗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月神和狩猎之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阿尔迪美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旅行和商业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赫尔墨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美神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阿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芙洛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战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阿雷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智慧之神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雅典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其中智慧女神雅典娜的诞生最为奇特：传说她是从宙斯的后脑勺中蹦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050840" y="1011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17640" y="333360"/>
            <a:ext cx="89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赫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希腊神话中的天后，主神宙斯的妻子。罗马神话中称为朱诺，掌管婚姻和生育，是妇女的保护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赫耳墨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一译海尔梅斯，是希腊神话中众神的使者，亡灵的接引神。罗马神话中称为墨丘利，掌管商业、交通、畜牧、竞技、演说以至欺诈、盗窃。他行走如飞，多才多艺，传说首创字母、数字、天文学、体育运动，发明古代的竖琴，并把种植橄榄树的技术传给人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1"/>
          <p:cNvSpPr/>
          <p:nvPr/>
        </p:nvSpPr>
        <p:spPr>
          <a:xfrm>
            <a:off x="3567960" y="49356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学指导一：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初读课文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2"/>
          <p:cNvSpPr/>
          <p:nvPr/>
        </p:nvSpPr>
        <p:spPr>
          <a:xfrm>
            <a:off x="457200" y="1752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索（          ）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庇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护神（          ）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爱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虚荣（         ）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歌（  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溉汲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     ）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忧天（        ）崩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 ）      身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寄（ 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亡气（          ）      星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）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伤（           ）    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虚（  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躇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步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跐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  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"/>
          <p:cNvSpPr/>
          <p:nvPr/>
        </p:nvSpPr>
        <p:spPr>
          <a:xfrm>
            <a:off x="2286000" y="1752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"/>
          <p:cNvSpPr/>
          <p:nvPr/>
        </p:nvSpPr>
        <p:spPr>
          <a:xfrm>
            <a:off x="7162920" y="169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5"/>
          <p:cNvSpPr/>
          <p:nvPr/>
        </p:nvSpPr>
        <p:spPr>
          <a:xfrm>
            <a:off x="2986200" y="22906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6"/>
          <p:cNvSpPr/>
          <p:nvPr/>
        </p:nvSpPr>
        <p:spPr>
          <a:xfrm>
            <a:off x="7135920" y="227808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k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7"/>
          <p:cNvSpPr/>
          <p:nvPr/>
        </p:nvSpPr>
        <p:spPr>
          <a:xfrm>
            <a:off x="2084400" y="280656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ài    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8"/>
          <p:cNvSpPr/>
          <p:nvPr/>
        </p:nvSpPr>
        <p:spPr>
          <a:xfrm>
            <a:off x="7337520" y="28065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9"/>
          <p:cNvSpPr/>
          <p:nvPr/>
        </p:nvSpPr>
        <p:spPr>
          <a:xfrm>
            <a:off x="2136600" y="338760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z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0"/>
          <p:cNvSpPr/>
          <p:nvPr/>
        </p:nvSpPr>
        <p:spPr>
          <a:xfrm>
            <a:off x="7226280" y="3379680"/>
            <a:ext cx="10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1"/>
          <p:cNvSpPr/>
          <p:nvPr/>
        </p:nvSpPr>
        <p:spPr>
          <a:xfrm>
            <a:off x="2995560" y="3952800"/>
            <a:ext cx="10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2"/>
          <p:cNvSpPr/>
          <p:nvPr/>
        </p:nvSpPr>
        <p:spPr>
          <a:xfrm>
            <a:off x="1987560" y="4484520"/>
            <a:ext cx="16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z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3"/>
          <p:cNvSpPr/>
          <p:nvPr/>
        </p:nvSpPr>
        <p:spPr>
          <a:xfrm>
            <a:off x="7183440" y="4424400"/>
            <a:ext cx="10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4"/>
          <p:cNvSpPr/>
          <p:nvPr/>
        </p:nvSpPr>
        <p:spPr>
          <a:xfrm>
            <a:off x="7162920" y="393876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5"/>
          <p:cNvSpPr/>
          <p:nvPr/>
        </p:nvSpPr>
        <p:spPr>
          <a:xfrm>
            <a:off x="2755800" y="50036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ú   cǐ   d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6"/>
          <p:cNvSpPr/>
          <p:nvPr/>
        </p:nvSpPr>
        <p:spPr>
          <a:xfrm>
            <a:off x="7470720" y="5032440"/>
            <a:ext cx="10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395280" y="191628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读准确  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同学轮流朗读课文，比一比谁读音准确，声音响亮，吐字清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"/>
          <p:cNvSpPr/>
          <p:nvPr/>
        </p:nvSpPr>
        <p:spPr>
          <a:xfrm>
            <a:off x="1784160" y="6922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学指导一：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初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长城中学91</cp:lastModifiedBy>
  <dcterms:modified xsi:type="dcterms:W3CDTF">2018-01-15T02:24:57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